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E6E-3794-4D81-A7D1-E6162C7F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1A9-5E9A-4850-B1C4-CC2F4C88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C81-F678-4CB4-87C4-7574EA2D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E2E-9AF5-45C3-8E57-9FE69F19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CE0-A50B-491F-8143-ABF45522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074-D09A-48E2-AF92-7D0C589F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F90-68F2-4161-9ABA-73A93CA7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1DE-64BA-4771-A394-D07237B6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015-BB39-4668-B6F6-0EA1EE13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734-38A6-4E01-9278-3FEB0A5D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648-BA88-4479-9E84-7C62CEC1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516-31AC-4DD2-920E-314DD494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0733-F4E6-4A23-92ED-1EEC6988B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388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6696000" cy="648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58920" y="333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мы слы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ffff66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корость звука в различных средах, м/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557360"/>
          <a:ext cx="8229600" cy="324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 ----------  </a:t>
                      </a:r>
                      <a:r>
                        <a:rPr b="0" lang="en-US" sz="28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1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о --------- </a:t>
                      </a:r>
                      <a:r>
                        <a:rPr b="0" lang="en-US" sz="28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нец ------  </a:t>
                      </a:r>
                      <a:r>
                        <a:rPr b="0" lang="en-US" sz="28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 ----- </a:t>
                      </a:r>
                      <a:r>
                        <a:rPr b="0" lang="en-US" sz="28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5000 – 6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 ----------  </a:t>
                      </a:r>
                      <a:r>
                        <a:rPr b="0" lang="en-US" sz="28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4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о ------ </a:t>
                      </a:r>
                      <a:r>
                        <a:rPr b="0" lang="en-US" sz="28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6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543640" cy="575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236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одни звуки отличаются от друг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333360"/>
            <a:ext cx="4302360" cy="604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0920" y="5697360"/>
            <a:ext cx="54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ияние звуков н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d8d8"/>
            </a:gs>
            <a:gs pos="50000">
              <a:srgbClr val="66ffff"/>
            </a:gs>
            <a:gs pos="100000">
              <a:srgbClr val="56d8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279960" cy="3745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4500720" cy="309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3640" y="2060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ра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260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ьтра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95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31:13Z</dcterms:created>
  <dc:creator>User</dc:creator>
  <dc:description/>
  <dc:language>en-US</dc:language>
  <cp:lastModifiedBy>User</cp:lastModifiedBy>
  <dcterms:modified xsi:type="dcterms:W3CDTF">2008-06-08T05:01:04Z</dcterms:modified>
  <cp:revision>2</cp:revision>
  <dc:subject/>
  <dc:title>Слайд 1</dc:title>
</cp:coreProperties>
</file>